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4.png" ContentType="image/png"/>
  <Override PartName="/ppt/media/image5.wmf" ContentType="image/x-wmf"/>
  <Override PartName="/ppt/media/image11.png" ContentType="image/png"/>
  <Override PartName="/ppt/media/image6.png" ContentType="image/png"/>
  <Override PartName="/ppt/media/image14.wmf" ContentType="image/x-wmf"/>
  <Override PartName="/ppt/media/image10.wmf" ContentType="image/x-wmf"/>
  <Override PartName="/ppt/media/image2.png" ContentType="image/png"/>
  <Override PartName="/ppt/media/image7.gif" ContentType="image/gif"/>
  <Override PartName="/ppt/media/image9.png" ContentType="image/png"/>
  <Override PartName="/ppt/media/image13.png" ContentType="image/png"/>
  <Override PartName="/ppt/media/image12.jpeg" ContentType="image/jpeg"/>
  <Override PartName="/ppt/media/image8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71448-9B9B-4EA3-B5D0-8A7F37DD7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183AD-3390-4A9C-A7D7-EEE431ECF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1E628-3EC4-4C75-99DC-59D11DDEF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D4CA3-4CE0-4EC1-96DA-C60C2CA8B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E1B5E-BC3B-4923-9222-6699C806F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70BCF-8F51-4592-B5AD-0772A8C36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B7225-8B1B-49A5-9526-E870BE809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A2E69-DBC9-4A29-B329-178F4BE43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922E2-2F75-4363-8B0D-1293206E4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454DF-21AD-4CA2-9DF6-10A4D3EFE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D84A1-8529-4856-9F62-9B8BE93DC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5B8FF-0165-4B7A-8257-560B8EEF9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453B7-2860-49E4-A2D9-629D27C7F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C640F-E0E9-4C62-A5D5-585B4228A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0312C-D726-47BE-8A5A-6CF2873AD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778A2-D069-48DC-B9FE-C42478141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A3FB6-3C4E-4D19-AA99-C2C6B040D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2EC3A9E-FB06-426C-9572-4C92331D3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D614EC5-1077-45DB-8CDE-AF3F5F7DB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FCBB1A1-E7A5-47AB-9F59-C2D94D3D0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7A7440A-2F6C-42B6-9800-EC9BBCD36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DD449C-F80A-4878-9AC5-66102EFB1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220AB-7E20-41A9-888F-F7DAC538A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6727DBD-7306-42E3-9BD3-3B0638897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138B9A0-AFA8-4F7E-AB49-A0D6A3F1B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C9EF653-6F79-447F-B774-889C5BAA9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E2B4B6B-A5A0-4F85-8AD3-A3D74C104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D84AF6F-5D83-4C83-985A-B26D698D1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83DA836-7DF4-4778-B466-EB696B741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C36D06A-54B8-4F4D-B5D5-294E78418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44D8CA-9C68-414E-908E-0C7DD5837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DE18BA-DD0F-4971-A5B4-C149BB912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5F7587-24B7-4262-97E8-8B303EB69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C6456-632F-4882-9977-A25A21EEC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1BA33D-C5F0-482C-83AF-036130765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585BE7-7808-4946-8C7F-7141D952F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4108A0-5728-4862-A884-596656CCE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F3130B-9D69-4E6A-BCFD-667A2DEE0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CC44C1-74E1-45C7-934E-8AFBF41F6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31B7BA-8219-4C95-8277-63C348A06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D83CBD-70E3-44EB-BB87-A13EEED8E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A43695-70D2-4835-BBE0-332A11B67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D8726E-ECE3-40D5-8C74-E356CEC2E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7B2A5D5-C0AF-4EA9-99B1-CD8B5C906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AF35F-2D24-42D3-95CF-D21FEFC27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6462A5F-2E5C-456D-AE94-42E0845A4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37B1F20-C913-4840-8987-24F75E0CC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4F779D7-0679-4447-AC33-2F4F9528C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9174EDE-E92C-4E41-BA33-DCE71D579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B2E5965-44CE-416D-8422-B4F631271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8E00DDB-810B-49E0-AA86-4A9A55B45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5D4712D-FF49-4EAC-979D-DFF57ADC4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756B79C-2CD7-4CD2-A265-2ABD4E8E6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D3CCA7C-D635-4E38-AF96-7E1F67E5D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9B5101E-3452-472F-BCF2-3DD5605A9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88390-32F0-4639-BD66-30B6B0727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0827D46-9B09-4AD0-A748-F825C0E0B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7B159B4-D709-4664-8AA4-FA8F46E2E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FA62FE7-C0FB-401D-B550-FDA6D14A6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60CE56A-6A38-4CD5-80D6-80886C542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29E5F6C-858B-46A8-92EE-074990716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25BE30F-994C-4561-B35C-168301F47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4D13A17-0A2C-46C3-A808-748A88AA8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888950E-0207-4859-A41A-4350866E9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2BC7F85-110A-4819-91D6-4E9D4A171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42B8CA5-BC9D-4398-BCB3-6769762F8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01202-C63A-4FEA-BB14-C3BD2FBE7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08FDF37-D6E6-4D72-BBF4-F49EABAE7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D1EE59D-3F50-45AF-B59C-64BA7ED0B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5E04D08-B37A-4A2C-A68B-867CF43C1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B3EF311-A860-4F24-83D1-E494EB206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3E96134-ADCC-4E8D-B63F-E058C3417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6634080-E161-4E40-AE17-EC2BE7E7A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3031D3C-63EC-42AC-B9FA-C8120684D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E4D165C-4735-4F11-A56A-D051305D2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31E5FC3-CFC0-45AD-B4DE-E37C694E3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103768A-43C8-4FE3-A190-D1CB6BA0F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F0707-CF3F-4F76-B3F6-B814212A1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AE30F72-E6C5-41A0-A137-A2A1DAFB6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2EFD989-04B0-487A-BE86-841381827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FC07901-EE31-41F1-8BE0-8E54E9BB7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3FE17BD-0784-4D1C-BBFE-ECE3C1956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BC867B5-E135-4171-855E-8A38766F5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02180-8D52-49E1-B891-60CB10E57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C78A9-FACF-48C0-AE2C-EE730B663E31}" type="slidenum">
              <a:rPr b="1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traight Connector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D8529-B914-47EB-8EA2-B13CEB5F2F0A}" type="slidenum">
              <a:rPr b="1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05933-0425-4218-8ED4-623880208872}" type="slidenum">
              <a:rPr b="1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traight Connector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25D67-F326-4969-A08E-0DB6239DA77D}" type="slidenum">
              <a:rPr b="1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4E65B-5465-4FBB-ABCD-CDCF11C2119F}" type="slidenum">
              <a:rPr b="1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traight Connector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Straight Connector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72DD2-B95B-4E42-BE5C-786DB8370169}" type="slidenum">
              <a:rPr b="1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Oval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Straight Connector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Straight Connector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Straight Connector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traight Connector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21946-9591-4FA0-8170-481A57DDA486}" type="slidenum">
              <a:rPr b="1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slide" Target=""/><Relationship Id="rId4" Type="http://schemas.openxmlformats.org/officeDocument/2006/relationships/slide" Target="slide3.xml"/><Relationship Id="rId5" Type="http://schemas.openxmlformats.org/officeDocument/2006/relationships/slide" Target="slide4.xml"/><Relationship Id="rId6" Type="http://schemas.openxmlformats.org/officeDocument/2006/relationships/slide" Target="slide5.xml"/><Relationship Id="rId7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Rectangle 3" descr=""/>
          <p:cNvPicPr/>
          <p:nvPr/>
        </p:nvPicPr>
        <p:blipFill>
          <a:blip r:embed="rId1"/>
          <a:stretch/>
        </p:blipFill>
        <p:spPr>
          <a:xfrm>
            <a:off x="1438200" y="249120"/>
            <a:ext cx="7156440" cy="6091200"/>
          </a:xfrm>
          <a:prstGeom prst="rect">
            <a:avLst/>
          </a:prstGeom>
          <a:ln w="0">
            <a:noFill/>
          </a:ln>
        </p:spPr>
      </p:pic>
      <p:sp>
        <p:nvSpPr>
          <p:cNvPr id="352" name="TextBox 8"/>
          <p:cNvSpPr/>
          <p:nvPr/>
        </p:nvSpPr>
        <p:spPr>
          <a:xfrm>
            <a:off x="0" y="0"/>
            <a:ext cx="185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 u="sng">
                <a:solidFill>
                  <a:srgbClr val="d2611c"/>
                </a:solidFill>
                <a:uFillTx/>
                <a:latin typeface="Calibri"/>
                <a:hlinkClick r:id="rId2" action="ppaction://hlinksldjump"/>
              </a:rPr>
              <a:t>Autopil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Box 9">
            <a:hlinkClick r:id="rId3" action="ppaction://hlinksldjump"/>
          </p:cNvPr>
          <p:cNvSpPr/>
          <p:nvPr/>
        </p:nvSpPr>
        <p:spPr>
          <a:xfrm>
            <a:off x="0" y="571680"/>
            <a:ext cx="185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 u="sng">
                <a:solidFill>
                  <a:srgbClr val="d2611c"/>
                </a:solidFill>
                <a:uFillTx/>
                <a:latin typeface="Calibri"/>
                <a:hlinkClick r:id="rId4" action="ppaction://hlinksldjump"/>
              </a:rPr>
              <a:t>Desc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Box 10"/>
          <p:cNvSpPr/>
          <p:nvPr/>
        </p:nvSpPr>
        <p:spPr>
          <a:xfrm>
            <a:off x="0" y="2571840"/>
            <a:ext cx="185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 u="sng">
                <a:solidFill>
                  <a:srgbClr val="d2611c"/>
                </a:solidFill>
                <a:uFillTx/>
                <a:latin typeface="Calibri"/>
                <a:hlinkClick r:id="rId5" action="ppaction://hlinksldjump"/>
              </a:rPr>
              <a:t>Rad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Box 11"/>
          <p:cNvSpPr/>
          <p:nvPr/>
        </p:nvSpPr>
        <p:spPr>
          <a:xfrm>
            <a:off x="0" y="3286080"/>
            <a:ext cx="185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 u="sng">
                <a:solidFill>
                  <a:srgbClr val="d2611c"/>
                </a:solidFill>
                <a:uFillTx/>
                <a:latin typeface="Calibri"/>
                <a:hlinkClick r:id="rId6" action="ppaction://hlinksldjump"/>
              </a:rPr>
              <a:t>Thru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Box 8"/>
          <p:cNvSpPr/>
          <p:nvPr/>
        </p:nvSpPr>
        <p:spPr>
          <a:xfrm>
            <a:off x="0" y="1214280"/>
            <a:ext cx="185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Fla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Box 8"/>
          <p:cNvSpPr/>
          <p:nvPr/>
        </p:nvSpPr>
        <p:spPr>
          <a:xfrm>
            <a:off x="0" y="1928880"/>
            <a:ext cx="13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La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Box 11"/>
          <p:cNvSpPr/>
          <p:nvPr/>
        </p:nvSpPr>
        <p:spPr>
          <a:xfrm>
            <a:off x="500040" y="564372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End slide sh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Rectangle 3" descr=""/>
          <p:cNvPicPr/>
          <p:nvPr/>
        </p:nvPicPr>
        <p:blipFill>
          <a:blip r:embed="rId1"/>
          <a:stretch/>
        </p:blipFill>
        <p:spPr>
          <a:xfrm>
            <a:off x="1298520" y="249120"/>
            <a:ext cx="7564320" cy="1109880"/>
          </a:xfrm>
          <a:prstGeom prst="rect">
            <a:avLst/>
          </a:prstGeom>
          <a:ln w="0">
            <a:noFill/>
          </a:ln>
        </p:spPr>
      </p:pic>
      <p:sp>
        <p:nvSpPr>
          <p:cNvPr id="36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entury Schoolbook"/>
              </a:rPr>
              <a:t>Autopilot meaning: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entury Schoolbook"/>
              </a:rPr>
              <a:t>                                                                                                                                                                 </a:t>
            </a:r>
            <a:r>
              <a:rPr b="0" lang="en-AU" sz="2400" spc="-1" strike="noStrike">
                <a:solidFill>
                  <a:srgbClr val="000000"/>
                </a:solidFill>
                <a:latin typeface="Century Schoolbook"/>
              </a:rPr>
              <a:t>A  navigational device that automatically keep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Century Schoolbook"/>
              </a:rPr>
              <a:t>ships, planes and spacecraft  on a steady course 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entury Schoolbook"/>
              </a:rPr>
              <a:t>Return to glossary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1" name="Picture 6" descr="C:\Program Files\Microsoft Office\Media\CntCD1\Photo1\j0178707.jpg"/>
          <p:cNvPicPr/>
          <p:nvPr/>
        </p:nvPicPr>
        <p:blipFill>
          <a:blip r:embed="rId2"/>
          <a:srcRect l="2972" t="22268" r="13691" b="15390"/>
          <a:stretch/>
        </p:blipFill>
        <p:spPr>
          <a:xfrm>
            <a:off x="4429080" y="4143240"/>
            <a:ext cx="357192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entury Schoolbook"/>
              </a:rPr>
              <a:t>Descend Meaning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entury Schoolbook"/>
              </a:rPr>
              <a:t>To pass from a higher to lower place ; to move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entury Schoolbook"/>
              </a:rPr>
              <a:t>downwards; to come down in anyway e.g. falling ;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entury Schoolbook"/>
              </a:rPr>
              <a:t>To plunge downwards (the opposite to ascend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Century Schoolbook"/>
              </a:rPr>
              <a:t>Return to glossary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3" name="Rectangle 3" descr=""/>
          <p:cNvPicPr/>
          <p:nvPr/>
        </p:nvPicPr>
        <p:blipFill>
          <a:blip r:embed="rId1"/>
          <a:stretch/>
        </p:blipFill>
        <p:spPr>
          <a:xfrm>
            <a:off x="646200" y="414360"/>
            <a:ext cx="7211880" cy="110952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6" descr="C:\Program Files\Microsoft Office\Media\CntCD1\ClipArt1\j0196234.wmf"/>
          <p:cNvPicPr/>
          <p:nvPr/>
        </p:nvPicPr>
        <p:blipFill>
          <a:blip r:embed="rId2"/>
          <a:stretch/>
        </p:blipFill>
        <p:spPr>
          <a:xfrm rot="4377600">
            <a:off x="5268600" y="4641480"/>
            <a:ext cx="2297160" cy="21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entury Schoolbook"/>
              </a:rPr>
              <a:t>Radar Meaning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entury Schoolbook"/>
              </a:rPr>
              <a:t>A device that tells you the position and speed of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entury Schoolbook"/>
              </a:rPr>
              <a:t>objects like cars, ships and planes by sending out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entury Schoolbook"/>
              </a:rPr>
              <a:t>radio waves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entury Schoolbook"/>
              </a:rPr>
              <a:t>Return to glossary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6" name="Rectangle 3" descr=""/>
          <p:cNvPicPr/>
          <p:nvPr/>
        </p:nvPicPr>
        <p:blipFill>
          <a:blip r:embed="rId1"/>
          <a:stretch/>
        </p:blipFill>
        <p:spPr>
          <a:xfrm>
            <a:off x="2152800" y="182520"/>
            <a:ext cx="6411600" cy="110988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4" descr="C:\Program Files\Microsoft Office\Media\CntCD1\Animated\j0234742.gif"/>
          <p:cNvPicPr/>
          <p:nvPr/>
        </p:nvPicPr>
        <p:blipFill>
          <a:blip r:embed="rId2"/>
          <a:stretch/>
        </p:blipFill>
        <p:spPr>
          <a:xfrm>
            <a:off x="4786200" y="4286160"/>
            <a:ext cx="192888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Picture 4" descr="C:\Program Files\Microsoft Office\Media\CntCD1\ClipArt6\j0290304.wmf"/>
          <p:cNvPicPr/>
          <p:nvPr/>
        </p:nvPicPr>
        <p:blipFill>
          <a:blip r:embed="rId1">
            <a:lum bright="70000" contrast="-70000"/>
          </a:blip>
          <a:srcRect l="0" t="0" r="21874" b="41695"/>
          <a:stretch/>
        </p:blipFill>
        <p:spPr>
          <a:xfrm>
            <a:off x="0" y="1357200"/>
            <a:ext cx="9144000" cy="4857840"/>
          </a:xfrm>
          <a:prstGeom prst="rect">
            <a:avLst/>
          </a:prstGeom>
          <a:ln w="0">
            <a:noFill/>
          </a:ln>
        </p:spPr>
      </p:pic>
      <p:sp>
        <p:nvSpPr>
          <p:cNvPr id="369" name=""/>
          <p:cNvSpPr txBox="1"/>
          <p:nvPr/>
        </p:nvSpPr>
        <p:spPr>
          <a:xfrm>
            <a:off x="285840" y="1642680"/>
            <a:ext cx="8300880" cy="46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entury Schoolbook"/>
              </a:rPr>
              <a:t>Thrust meaning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entury Schoolbook"/>
              </a:rPr>
              <a:t>Thrust is a mechanical force generated  by engines  to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entury Schoolbook"/>
              </a:rPr>
              <a:t>move the aircraft through the air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entury Schoolbook"/>
              </a:rPr>
              <a:t>Return to glossary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0" name="Rectangle 3" descr=""/>
          <p:cNvPicPr/>
          <p:nvPr/>
        </p:nvPicPr>
        <p:blipFill>
          <a:blip r:embed="rId2"/>
          <a:stretch/>
        </p:blipFill>
        <p:spPr>
          <a:xfrm>
            <a:off x="1792440" y="324000"/>
            <a:ext cx="6613200" cy="110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Picture 4" descr="C:\Program Files\Microsoft Office\Media\CntCD1\ClipArt1\j0196068.wmf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500040" y="1071720"/>
            <a:ext cx="7773840" cy="4493880"/>
          </a:xfrm>
          <a:prstGeom prst="rect">
            <a:avLst/>
          </a:prstGeom>
          <a:ln w="0">
            <a:noFill/>
          </a:ln>
        </p:spPr>
      </p:pic>
      <p:sp>
        <p:nvSpPr>
          <p:cNvPr id="37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entury Schoolbook"/>
              </a:rPr>
              <a:t>Flap definition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entury Schoolbook"/>
              </a:rPr>
              <a:t>The flaps are positioned at the back of a plane to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entury Schoolbook"/>
              </a:rPr>
              <a:t>change the direction and the height of the plane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entury Schoolbook"/>
              </a:rPr>
              <a:t>Return to glossary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3" name="Rectangle 3" descr=""/>
          <p:cNvPicPr/>
          <p:nvPr/>
        </p:nvPicPr>
        <p:blipFill>
          <a:blip r:embed="rId2"/>
          <a:stretch/>
        </p:blipFill>
        <p:spPr>
          <a:xfrm>
            <a:off x="2073240" y="396720"/>
            <a:ext cx="5589720" cy="110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TextBox 4"/>
          <p:cNvSpPr/>
          <p:nvPr/>
        </p:nvSpPr>
        <p:spPr>
          <a:xfrm>
            <a:off x="5143680" y="3429000"/>
            <a:ext cx="2500200" cy="29703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456840" y="1600200"/>
            <a:ext cx="625788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entury Schoolbook"/>
              </a:rPr>
              <a:t>Launch definition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entury Schoolbook"/>
              </a:rPr>
              <a:t>To send into the  air e.g.. to launch a rocket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entury Schoolbook"/>
              </a:rPr>
              <a:t>To start or push off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entury Schoolbook"/>
              </a:rPr>
              <a:t>Return to glossary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6" name="Rectangle 3" descr=""/>
          <p:cNvPicPr/>
          <p:nvPr/>
        </p:nvPicPr>
        <p:blipFill>
          <a:blip r:embed="rId2"/>
          <a:stretch/>
        </p:blipFill>
        <p:spPr>
          <a:xfrm>
            <a:off x="1292400" y="324000"/>
            <a:ext cx="6619680" cy="110808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4" descr="C:\Program Files\Microsoft Office\MEDIA\CAGCAT10\j0215086.wmf"/>
          <p:cNvPicPr/>
          <p:nvPr/>
        </p:nvPicPr>
        <p:blipFill>
          <a:blip r:embed="rId3"/>
          <a:stretch/>
        </p:blipFill>
        <p:spPr>
          <a:xfrm>
            <a:off x="5572080" y="3571920"/>
            <a:ext cx="1714680" cy="26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6T23:44:49Z</dcterms:created>
  <dc:creator>Education</dc:creator>
  <dc:description/>
  <dc:language>en-US</dc:language>
  <cp:lastModifiedBy>Education</cp:lastModifiedBy>
  <dcterms:modified xsi:type="dcterms:W3CDTF">2009-07-28T04:14:01Z</dcterms:modified>
  <cp:revision>28</cp:revision>
  <dc:subject/>
  <dc:title>Slide 1</dc:title>
</cp:coreProperties>
</file>